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8CF3B-1DAE-4E9D-9166-329704CAF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6AB3F-E3DD-4A6A-86F6-ACDB678D7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B3F4F-0E28-432D-B85C-FC560F35A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2F1CD-1BD9-4BE2-B119-2711C0987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B1CB-B5FB-4500-A165-968692E1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D804-D430-4FA0-BAAE-8FA298FB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E56EC-6309-4DC5-A347-56B0DAB83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CDCF2-579B-47E5-830F-E029BB732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DEEB-9313-4F42-A87E-1680EE777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3F39-2BBD-4F1A-8940-EFBCEF77F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8E84-F976-4205-AE6C-F3AFC0805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DF5E5-E31A-4699-81A2-57409BA27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0A03-14E1-4874-A9F5-A20154B11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Pärt Kuk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Pärn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2005</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63"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ssinuga vajab pidevat hooldamist. Peale töö lõppu puhasta klaasinoa tera ja selle ümbrus harja või veel parem suruõhuga peenest klaasipurust ja tolmust. Veendu, et tera pöörleb vabalt. Tagamaks tera sujuvat pöörlemist, ohverda üks tilk õli. Sellega väldid ka tera roostetam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65"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Lõigata võib joonlaua ja nurgiku abil – sirged lõi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Töölauale kantud joonte järgi (läbipaistvat klaasi) – sirged ja kõverjoonelised lõi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 alla asetatud kavandi järgi - sirged ja kõverjoonelised lõi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le kantud joonte järgi - sirged ja kõverjoonelised lõiked.</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67"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Klaasinuga hoitakse kindla haardega käes, et saaks suruda lõiketera tugevalt vastu klaasi. Surve sõltub klaasipaksusest ja sellele vastavalt kasutatavast lõiketeras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69" name=""/>
          <p:cNvSpPr/>
          <p:nvPr/>
        </p:nvSpPr>
        <p:spPr>
          <a:xfrm>
            <a:off x="304920" y="4343400"/>
            <a:ext cx="3733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Mitmeteralise noaga on mugav lõigata joonlaua ja nurgiku serva mööda.</a:t>
            </a:r>
            <a:endParaRPr b="0" lang="en-US" sz="2800" spc="-1" strike="noStrike">
              <a:solidFill>
                <a:srgbClr val="000000"/>
              </a:solidFill>
              <a:latin typeface="Times New Roman"/>
            </a:endParaRPr>
          </a:p>
        </p:txBody>
      </p:sp>
      <p:pic>
        <p:nvPicPr>
          <p:cNvPr id="70" name="HPIM5295" descr=""/>
          <p:cNvPicPr/>
          <p:nvPr/>
        </p:nvPicPr>
        <p:blipFill>
          <a:blip r:embed="rId2"/>
          <a:stretch/>
        </p:blipFill>
        <p:spPr>
          <a:xfrm>
            <a:off x="4533840" y="1523880"/>
            <a:ext cx="3695760" cy="4927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72" name="HPIM5297" descr=""/>
          <p:cNvPicPr/>
          <p:nvPr/>
        </p:nvPicPr>
        <p:blipFill>
          <a:blip r:embed="rId2"/>
          <a:stretch/>
        </p:blipFill>
        <p:spPr>
          <a:xfrm>
            <a:off x="4537080" y="1554120"/>
            <a:ext cx="3692520" cy="4923000"/>
          </a:xfrm>
          <a:prstGeom prst="rect">
            <a:avLst/>
          </a:prstGeom>
          <a:ln w="0">
            <a:noFill/>
          </a:ln>
        </p:spPr>
      </p:pic>
      <p:sp>
        <p:nvSpPr>
          <p:cNvPr id="73" name=""/>
          <p:cNvSpPr/>
          <p:nvPr/>
        </p:nvSpPr>
        <p:spPr>
          <a:xfrm>
            <a:off x="609480" y="4554360"/>
            <a:ext cx="3353040" cy="189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Üheteraline nuga sobib kavandi järgi lõikamisek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75" name="HPIM5298" descr=""/>
          <p:cNvPicPr/>
          <p:nvPr/>
        </p:nvPicPr>
        <p:blipFill>
          <a:blip r:embed="rId2"/>
          <a:stretch/>
        </p:blipFill>
        <p:spPr>
          <a:xfrm>
            <a:off x="2743200" y="1676520"/>
            <a:ext cx="3753000" cy="5003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77" name="loik_04" descr=""/>
          <p:cNvPicPr/>
          <p:nvPr/>
        </p:nvPicPr>
        <p:blipFill>
          <a:blip r:embed="rId2"/>
          <a:stretch/>
        </p:blipFill>
        <p:spPr>
          <a:xfrm>
            <a:off x="2152800" y="1936800"/>
            <a:ext cx="4838400" cy="2984400"/>
          </a:xfrm>
          <a:prstGeom prst="rect">
            <a:avLst/>
          </a:prstGeom>
          <a:ln w="0">
            <a:noFill/>
          </a:ln>
        </p:spPr>
      </p:pic>
      <p:sp>
        <p:nvSpPr>
          <p:cNvPr id="78" name=""/>
          <p:cNvSpPr/>
          <p:nvPr/>
        </p:nvSpPr>
        <p:spPr>
          <a:xfrm>
            <a:off x="2133720" y="5334120"/>
            <a:ext cx="495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Harjutamine teeb meistrik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80"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Enne klaasinoaga lõike sooritamist võiks näpuga või kuiva lapiga tõmma korra mööda lõigatavat joont. Nii saab eemaldada lahtise mustuse ja klaasinoa tera veereb paremin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Lõikejoon peab olema pidev, siis murdub klaas paremin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atkendlik lõikejoon on vigase tera tunnus.</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82" name="loik_09" descr=""/>
          <p:cNvPicPr/>
          <p:nvPr/>
        </p:nvPicPr>
        <p:blipFill>
          <a:blip r:embed="rId2"/>
          <a:stretch/>
        </p:blipFill>
        <p:spPr>
          <a:xfrm>
            <a:off x="2743200" y="1523880"/>
            <a:ext cx="3657600" cy="3135600"/>
          </a:xfrm>
          <a:prstGeom prst="rect">
            <a:avLst/>
          </a:prstGeom>
          <a:ln w="0">
            <a:noFill/>
          </a:ln>
        </p:spPr>
      </p:pic>
      <p:sp>
        <p:nvSpPr>
          <p:cNvPr id="83" name=""/>
          <p:cNvSpPr/>
          <p:nvPr/>
        </p:nvSpPr>
        <p:spPr>
          <a:xfrm>
            <a:off x="685800" y="51055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 lõikamisel veereb lõiketera mööda klaasi ja surve mõjul tekitab sinna väikese vao.</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85" name="loik_10" descr=""/>
          <p:cNvPicPr/>
          <p:nvPr/>
        </p:nvPicPr>
        <p:blipFill>
          <a:blip r:embed="rId2"/>
          <a:stretch/>
        </p:blipFill>
        <p:spPr>
          <a:xfrm>
            <a:off x="2743200" y="1743120"/>
            <a:ext cx="3627360" cy="3111480"/>
          </a:xfrm>
          <a:prstGeom prst="rect">
            <a:avLst/>
          </a:prstGeom>
          <a:ln w="0">
            <a:noFill/>
          </a:ln>
        </p:spPr>
      </p:pic>
      <p:sp>
        <p:nvSpPr>
          <p:cNvPr id="86" name=""/>
          <p:cNvSpPr/>
          <p:nvPr/>
        </p:nvSpPr>
        <p:spPr>
          <a:xfrm>
            <a:off x="609480" y="52578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Seejärel asetatakse klaas lauale lõikejoonega lauaserva kohal. Suurem osa klaasist peaks toetuma lauale.</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44"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Ohutusnõu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Töövahend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Tahvelkaasi lõikam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Pudelite lõikamine</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88" name="loik_11" descr=""/>
          <p:cNvPicPr/>
          <p:nvPr/>
        </p:nvPicPr>
        <p:blipFill>
          <a:blip r:embed="rId2"/>
          <a:stretch/>
        </p:blipFill>
        <p:spPr>
          <a:xfrm>
            <a:off x="2743200" y="1743120"/>
            <a:ext cx="3627360" cy="3110040"/>
          </a:xfrm>
          <a:prstGeom prst="rect">
            <a:avLst/>
          </a:prstGeom>
          <a:ln w="0">
            <a:noFill/>
          </a:ln>
        </p:spPr>
      </p:pic>
      <p:sp>
        <p:nvSpPr>
          <p:cNvPr id="89" name=""/>
          <p:cNvSpPr/>
          <p:nvPr/>
        </p:nvSpPr>
        <p:spPr>
          <a:xfrm>
            <a:off x="685800" y="525780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Ühe käega surutrakse laual olevale klaasi pinnale, teisega hoitakse eemaldatava osa servast ja murtakse järsu, alla suunatud liigutuseg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91" name="loik_12" descr=""/>
          <p:cNvPicPr/>
          <p:nvPr/>
        </p:nvPicPr>
        <p:blipFill>
          <a:blip r:embed="rId2"/>
          <a:stretch/>
        </p:blipFill>
        <p:spPr>
          <a:xfrm>
            <a:off x="2743200" y="1743120"/>
            <a:ext cx="3627360" cy="3110040"/>
          </a:xfrm>
          <a:prstGeom prst="rect">
            <a:avLst/>
          </a:prstGeom>
          <a:ln w="0">
            <a:noFill/>
          </a:ln>
        </p:spPr>
      </p:pic>
      <p:sp>
        <p:nvSpPr>
          <p:cNvPr id="92" name=""/>
          <p:cNvSpPr/>
          <p:nvPr/>
        </p:nvSpPr>
        <p:spPr>
          <a:xfrm>
            <a:off x="685800" y="5029200"/>
            <a:ext cx="81532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Lõigatavasse klaasi saab tekitada prao. Selleks tuleb kergelt koputada pikki lõikejoont klaasi vastas küljel. Kopsimiseks sobib kerge metallist ese (tavaliselt klaasinuga).</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94"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 sulatamisel saab edukalt kasutada värvilistest pudelitest saadavat klaas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õige paremini on lõigatavad veinipudelid, nende klaas on suhteliselt õhuke ja ühtlase paksuseg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Raskem on lõigata kange alkoholi ja õlle alt vabanenud pudeleid, sest klaasi ebaühtlase paksuse tõttu tekkivad prao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96"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Vahuveinide pudelid on paksust klaasist (kuni 6mm) ja väga raskesti lõigatava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Räägitakse igasugustest imelistest võtetest pudelite lõikamisel – küll kuumusega, küll külmaga, samuti tule ja veeg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Järgnevalt soovitan kasutada siiski klaasinuga, minu ainus eelistus on suure kandilise peaga üheteraline nuga.</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98"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õikepealt tuleb pudel puhastada etiket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Leida või valmistada alus millel pudelit külili asendis keerata nii, et oleks välditud pudeli pikki suunas liikumi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nuga hoitakse paigal, pudelit keeratak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Alustama peab pudeli põhja poolsest otsast, põhjast 10 – 20mm kaugusel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100" name="loik_05" descr=""/>
          <p:cNvPicPr/>
          <p:nvPr/>
        </p:nvPicPr>
        <p:blipFill>
          <a:blip r:embed="rId2"/>
          <a:stretch/>
        </p:blipFill>
        <p:spPr>
          <a:xfrm>
            <a:off x="2743200" y="1905120"/>
            <a:ext cx="4495680" cy="375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102"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Nii lõigatakse ring ümber pudeli. Jälgida tuleb, et lõikejoone lõpp ühineb alguseg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Pudelite puhul ei saa klaasi lahti murda, vaid tuleb mööda lõikejoont ettevaatlikult koputad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Mida kannatlikumalt tegutseda, seda kindlam võib olla õnnestumi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oputada tuleb pudeli seest.</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104" name="loik_06" descr=""/>
          <p:cNvPicPr/>
          <p:nvPr/>
        </p:nvPicPr>
        <p:blipFill>
          <a:blip r:embed="rId2"/>
          <a:stretch/>
        </p:blipFill>
        <p:spPr>
          <a:xfrm>
            <a:off x="2743200" y="1752480"/>
            <a:ext cx="4724280" cy="3272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106" name="loik_07" descr=""/>
          <p:cNvPicPr/>
          <p:nvPr/>
        </p:nvPicPr>
        <p:blipFill>
          <a:blip r:embed="rId2"/>
          <a:stretch/>
        </p:blipFill>
        <p:spPr>
          <a:xfrm>
            <a:off x="533520" y="4724280"/>
            <a:ext cx="8153280" cy="1219320"/>
          </a:xfrm>
          <a:prstGeom prst="rect">
            <a:avLst/>
          </a:prstGeom>
          <a:ln w="0">
            <a:noFill/>
          </a:ln>
        </p:spPr>
      </p:pic>
      <p:sp>
        <p:nvSpPr>
          <p:cNvPr id="107" name=""/>
          <p:cNvSpPr/>
          <p:nvPr/>
        </p:nvSpPr>
        <p:spPr>
          <a:xfrm>
            <a:off x="2209680" y="2057400"/>
            <a:ext cx="59436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Pildil on tööriist, millega saab lõikejoone pudelis lahti koputad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Varda otsas oleva ketta serv on laiusega 1 - 2mm</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109" name="PlaceHolder 2"/>
          <p:cNvSpPr>
            <a:spLocks noGrp="1"/>
          </p:cNvSpPr>
          <p:nvPr>
            <p:ph/>
          </p:nvPr>
        </p:nvSpPr>
        <p:spPr>
          <a:xfrm>
            <a:off x="2285640" y="1981080"/>
            <a:ext cx="6172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ui põhi on eemaldatud, võib asuda kaela kallale, enamasti on see juba lihts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Pudelitest saab lõigata mitmesuguseid kujundeid: silindreid, rõngaid, kaar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Samuti mitmesuguse laiusega ribasid, kiilusid. Selleks tuleb algselt saadud silindrit pikuti lõikuda, esialgu kaheks või kolmeks osaks, seejärel vastavalt vajadusel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46"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Lõigatud ja eriti murdunud klaasi serv on ülimalt terav. Teravad nurgad võivad tekitada torkehaavu, pikad servad lõikehaav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 murdumisel lendub väikesi klaasi tükikesi.</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pic>
        <p:nvPicPr>
          <p:cNvPr id="111" name="loik_08" descr=""/>
          <p:cNvPicPr/>
          <p:nvPr/>
        </p:nvPicPr>
        <p:blipFill>
          <a:blip r:embed="rId2"/>
          <a:stretch/>
        </p:blipFill>
        <p:spPr>
          <a:xfrm>
            <a:off x="2362320" y="1687680"/>
            <a:ext cx="4267080" cy="326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113" name="PlaceHolder 2"/>
          <p:cNvSpPr>
            <a:spLocks noGrp="1"/>
          </p:cNvSpPr>
          <p:nvPr>
            <p:ph/>
          </p:nvPr>
        </p:nvSpPr>
        <p:spPr>
          <a:xfrm>
            <a:off x="1523520" y="5486040"/>
            <a:ext cx="6248520" cy="60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t-EE" sz="3200" spc="-1" strike="noStrike">
                <a:solidFill>
                  <a:srgbClr val="000000"/>
                </a:solidFill>
                <a:latin typeface="Times New Roman"/>
              </a:rPr>
              <a:t>Teravat nuga!</a:t>
            </a:r>
            <a:endParaRPr b="0" lang="en-US" sz="3200" spc="-1" strike="noStrike">
              <a:solidFill>
                <a:srgbClr val="000000"/>
              </a:solidFill>
              <a:latin typeface="Times New Roman"/>
            </a:endParaRPr>
          </a:p>
        </p:txBody>
      </p:sp>
      <p:pic>
        <p:nvPicPr>
          <p:cNvPr id="114" name="HPIM5301" descr=""/>
          <p:cNvPicPr/>
          <p:nvPr/>
        </p:nvPicPr>
        <p:blipFill>
          <a:blip r:embed="rId2"/>
          <a:stretch/>
        </p:blipFill>
        <p:spPr>
          <a:xfrm>
            <a:off x="2629080" y="1892160"/>
            <a:ext cx="3886200" cy="3073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48"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 lõikamisel kanna kaitsepril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äsi kaitse kinnasteg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Väikesi klaasitükke tõsta pintsettideg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Mõõtu lõigatud klaasitükkide servad kumerda lihvpaberig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Hoia töölaud puh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ätele sattunud klaasipuru ja tolm eemalda voolava vee all.</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50"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Põhiline töövahend on klaasinuga, neid on saadaval eriva kujuga, mitmesuguse lõiketerade arvug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Väga kallis nuga on teemandist teraga (ei sobi kooli tasemel klaasitööde sooritamis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Head noad on kettakujulise lõiketeraga ja õlianumaga, tera veereb sujuvalt ja vabalt.</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52"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Klaasinoa lõiketera on terava servaga, ketta kujuline, pöörleb ümber peene terasest telje.</a:t>
            </a:r>
            <a:endParaRPr b="0" lang="en-US" sz="2800" spc="-1" strike="noStrike">
              <a:solidFill>
                <a:srgbClr val="000000"/>
              </a:solidFill>
              <a:latin typeface="Times New Roman"/>
            </a:endParaRPr>
          </a:p>
        </p:txBody>
      </p:sp>
      <p:pic>
        <p:nvPicPr>
          <p:cNvPr id="53" name="loik_02" descr=""/>
          <p:cNvPicPr/>
          <p:nvPr/>
        </p:nvPicPr>
        <p:blipFill>
          <a:blip r:embed="rId2"/>
          <a:stretch/>
        </p:blipFill>
        <p:spPr>
          <a:xfrm>
            <a:off x="3276720" y="3505320"/>
            <a:ext cx="3352680" cy="2876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55" name="PlaceHolder 2"/>
          <p:cNvSpPr>
            <a:spLocks noGrp="1"/>
          </p:cNvSpPr>
          <p:nvPr>
            <p:ph/>
          </p:nvPr>
        </p:nvSpPr>
        <p:spPr>
          <a:xfrm>
            <a:off x="2209320" y="1981080"/>
            <a:ext cx="6248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Noal võib olla üks või mitu lõiketera. Mitme teralisel noal on lõiketerad tähistatud numbritega, mis näitavad klaasi paksust. Teri saab vahetada kruvikeeraja või võtme abil. Klaasitööde juures saab edukalt kasutada kõiki teri, sõltumata nende numbr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57" name=""/>
          <p:cNvSpPr/>
          <p:nvPr/>
        </p:nvSpPr>
        <p:spPr>
          <a:xfrm>
            <a:off x="2133720" y="4724280"/>
            <a:ext cx="59436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Mitme lõiketeraga nug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Sälgud klaasinoa servadel on kitsaste klaasiribade murdmiseks.</a:t>
            </a:r>
            <a:endParaRPr b="0" lang="en-US" sz="2800" spc="-1" strike="noStrike">
              <a:solidFill>
                <a:srgbClr val="000000"/>
              </a:solidFill>
              <a:latin typeface="Times New Roman"/>
            </a:endParaRPr>
          </a:p>
        </p:txBody>
      </p:sp>
      <p:pic>
        <p:nvPicPr>
          <p:cNvPr id="58" name="loik_nuga_m" descr=""/>
          <p:cNvPicPr/>
          <p:nvPr/>
        </p:nvPicPr>
        <p:blipFill>
          <a:blip r:embed="rId2"/>
          <a:stretch/>
        </p:blipFill>
        <p:spPr>
          <a:xfrm>
            <a:off x="2438280" y="1600200"/>
            <a:ext cx="4667400" cy="2925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Klaasi lõikamine</a:t>
            </a:r>
            <a:endParaRPr b="0" lang="en-US" sz="4400" spc="-1" strike="noStrike">
              <a:solidFill>
                <a:srgbClr val="000000"/>
              </a:solidFill>
              <a:latin typeface="Times New Roman"/>
            </a:endParaRPr>
          </a:p>
        </p:txBody>
      </p:sp>
      <p:sp>
        <p:nvSpPr>
          <p:cNvPr id="60" name=""/>
          <p:cNvSpPr/>
          <p:nvPr/>
        </p:nvSpPr>
        <p:spPr>
          <a:xfrm>
            <a:off x="2133720" y="495288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Ühe lõiketeraga klaasinuga</a:t>
            </a:r>
            <a:endParaRPr b="0" lang="en-US" sz="2800" spc="-1" strike="noStrike">
              <a:solidFill>
                <a:srgbClr val="000000"/>
              </a:solidFill>
              <a:latin typeface="Times New Roman"/>
            </a:endParaRPr>
          </a:p>
        </p:txBody>
      </p:sp>
      <p:pic>
        <p:nvPicPr>
          <p:cNvPr id="61" name="loik_nuga" descr=""/>
          <p:cNvPicPr/>
          <p:nvPr/>
        </p:nvPicPr>
        <p:blipFill>
          <a:blip r:embed="rId2"/>
          <a:stretch/>
        </p:blipFill>
        <p:spPr>
          <a:xfrm>
            <a:off x="2489040" y="1752480"/>
            <a:ext cx="4749840" cy="297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7:35:35Z</dcterms:created>
  <dc:creator>Pärt</dc:creator>
  <dc:description/>
  <dc:language>en-US</dc:language>
  <cp:lastModifiedBy>Pärt</cp:lastModifiedBy>
  <dcterms:modified xsi:type="dcterms:W3CDTF">2005-11-15T17:34:12Z</dcterms:modified>
  <cp:revision>11</cp:revision>
  <dc:subject/>
  <dc:title>Klaasi lõikamine</dc:title>
</cp:coreProperties>
</file>